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ick.wav" ContentType="audio/x-wav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C850-E6FB-4DF7-BBCF-401AA9E41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4AF7-A19D-42E0-8A08-CAD812FF1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24A5-041E-4939-8763-ED71D1AD2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1DA7-77BD-4379-A1FB-A9BC357C0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91EA-7B67-48B3-9013-958770DB0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22EA-455B-41EF-9FF6-4D79ABD64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9D41-877C-4919-B8C8-0B7685ED5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1CA4-2D5C-4A93-BEEF-EC24E8F80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A564-5225-44BE-9A6F-9C9D04D04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F0A6-1D16-49FB-B074-AA8BC095B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6E26-14E4-4652-B7B4-0F5F0E314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E88D-1CC3-4A5D-9764-A2A4DAAE6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2469-5328-4B46-905C-393C0FB42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FDE-46F4-4D64-A888-6C3727FD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92FE-B9CB-4B71-BBA6-5AB4E143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6EB-BC4F-4539-8CCC-21594FBC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0061-9CEA-4380-B05D-0B3867A9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5D5-D294-4574-ACFD-C4A1F3F7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971D-3193-467C-8822-0444F761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833-C4F5-41B4-A217-CEA7D520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2EC-495D-45ED-98D8-8083B18D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9BBE-E8F6-4C08-993C-B4F8A750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872-8C77-46F7-BD52-40CC698C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87DF-CEC5-4256-B2E5-E69623A8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E11F-00E5-4657-8084-E127AEC2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C2AE-B2B2-47F9-B0D2-55517F7A2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 Baleen and Toothed wh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1000">
    <p:fade thruBlk="true"/>
    <p:sndAc>
      <p:stSnd>
        <p:snd r:embed="rId1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foes of the whales would be the species of human and mother n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Documents and Settings\bcsuser\Local Settings\Temporary Internet Files\Content.IE5\BH2JRIFB\MPj04387420000[1].jpg"/>
          <p:cNvPicPr/>
          <p:nvPr/>
        </p:nvPicPr>
        <p:blipFill>
          <a:blip r:embed="rId1"/>
          <a:stretch/>
        </p:blipFill>
        <p:spPr>
          <a:xfrm>
            <a:off x="380880" y="2895480"/>
            <a:ext cx="3367080" cy="2743200"/>
          </a:xfrm>
          <a:prstGeom prst="rect">
            <a:avLst/>
          </a:prstGeom>
          <a:ln w="0">
            <a:noFill/>
          </a:ln>
        </p:spPr>
      </p:pic>
      <p:sp>
        <p:nvSpPr>
          <p:cNvPr id="80" name="Tree"/>
          <p:cNvSpPr/>
          <p:nvPr/>
        </p:nvSpPr>
        <p:spPr>
          <a:xfrm>
            <a:off x="6753240" y="336708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fade thruBlk="true"/>
    <p:sndAc>
      <p:stSnd>
        <p:snd r:embed="rId2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ways you can stop this animal from being extinct is that you can stop polluting and to always recyc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fade thruBlk="true"/>
    <p:sndAc>
      <p:stSnd>
        <p:snd r:embed="rId1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extra information about whales is that over the years whaling has gotten more serious causing more and more whales to become endangered and finally extin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bcsuser\Local Settings\Temporary Internet Files\Content.IE5\BH2JRIFB\MCj04125020000[1].wmf"/>
          <p:cNvPicPr/>
          <p:nvPr/>
        </p:nvPicPr>
        <p:blipFill>
          <a:blip r:embed="rId1"/>
          <a:stretch/>
        </p:blipFill>
        <p:spPr>
          <a:xfrm>
            <a:off x="5392800" y="4116240"/>
            <a:ext cx="2216160" cy="2482920"/>
          </a:xfrm>
          <a:prstGeom prst="rect">
            <a:avLst/>
          </a:prstGeom>
          <a:ln w="0">
            <a:noFill/>
          </a:ln>
        </p:spPr>
      </p:pic>
    </p:spTree>
  </p:cSld>
  <p:transition advTm="15000">
    <p:fade thruBlk="true"/>
    <p:sndAc>
      <p:stSnd>
        <p:snd r:embed="rId2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pecies of endangered whale is toothed and bale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C:\Documents and Settings\bcsuser\Local Settings\Temporary Internet Files\Content.IE5\XEE8IJW3\MPj02628270000[1].jpg"/>
          <p:cNvPicPr/>
          <p:nvPr/>
        </p:nvPicPr>
        <p:blipFill>
          <a:blip r:embed="rId1"/>
          <a:stretch/>
        </p:blipFill>
        <p:spPr>
          <a:xfrm>
            <a:off x="4800600" y="2286000"/>
            <a:ext cx="3657600" cy="246204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ypical length is 110 feet! The typical weight of the whales is 150 tons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bcsuser\Local Settings\Temporary Internet Files\Content.IE5\9ZIT1MYZ\MCj00952450000[1].wmf"/>
          <p:cNvPicPr/>
          <p:nvPr/>
        </p:nvPicPr>
        <p:blipFill>
          <a:blip r:embed="rId1"/>
          <a:stretch/>
        </p:blipFill>
        <p:spPr>
          <a:xfrm>
            <a:off x="2743200" y="2438280"/>
            <a:ext cx="4672080" cy="375948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fespan of these whales are 20-40 years .Sometimes even 80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:\Documents and Settings\bcsuser\Local Settings\Temporary Internet Files\Content.IE5\9ZIT1MYZ\MCBD07402_0000[1].wmf"/>
          <p:cNvPicPr/>
          <p:nvPr/>
        </p:nvPicPr>
        <p:blipFill>
          <a:blip r:embed="rId1"/>
          <a:stretch/>
        </p:blipFill>
        <p:spPr>
          <a:xfrm>
            <a:off x="196920" y="2610000"/>
            <a:ext cx="8947080" cy="40194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  <p:sndAc>
      <p:stSnd>
        <p:snd r:embed="rId2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et is any thing from plankton to large marine animal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1" descr="C:\Documents and Settings\bcsuser\Local Settings\Temporary Internet Files\Content.IE5\XEE8IJW3\MPj04388390000[1].jpg"/>
          <p:cNvPicPr/>
          <p:nvPr/>
        </p:nvPicPr>
        <p:blipFill>
          <a:blip r:embed="rId1"/>
          <a:stretch/>
        </p:blipFill>
        <p:spPr>
          <a:xfrm>
            <a:off x="2514600" y="2133720"/>
            <a:ext cx="6407280" cy="472428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  <p:sndAc>
      <p:stSnd>
        <p:snd r:embed="rId2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opulation ranges for each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C:\Documents and Settings\bcsuser\Local Settings\Temporary Internet Files\Content.IE5\BH2JRIFB\MPj04422560000[1].jpg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  <p:sndAc>
      <p:stSnd>
        <p:snd r:embed="rId2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live in every oce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C:\Documents and Settings\bcsuser\Local Settings\Temporary Internet Files\Content.IE5\9ZIT1MYZ\MPj04385040000[1].jpg"/>
          <p:cNvPicPr/>
          <p:nvPr/>
        </p:nvPicPr>
        <p:blipFill>
          <a:blip r:embed="rId1"/>
          <a:stretch/>
        </p:blipFill>
        <p:spPr>
          <a:xfrm>
            <a:off x="1371600" y="2438280"/>
            <a:ext cx="6400800" cy="4419720"/>
          </a:xfrm>
          <a:prstGeom prst="rect">
            <a:avLst/>
          </a:prstGeom>
          <a:ln w="0">
            <a:noFill/>
          </a:ln>
        </p:spPr>
      </p:pic>
    </p:spTree>
  </p:cSld>
  <p:transition advTm="9000">
    <p:fade thruBlk="true"/>
    <p:sndAc>
      <p:stSnd>
        <p:snd r:embed="rId2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havior of the animals is that the toothed hunt and migrate in groups. Baleen on the other hand very seldom travels in pac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bcsuser\Local Settings\Temporary Internet Files\Content.IE5\9ZIT1MYZ\MCSY00619_0000[1].wmf"/>
          <p:cNvPicPr/>
          <p:nvPr/>
        </p:nvPicPr>
        <p:blipFill>
          <a:blip r:embed="rId1"/>
          <a:stretch/>
        </p:blipFill>
        <p:spPr>
          <a:xfrm>
            <a:off x="4724280" y="3352680"/>
            <a:ext cx="1854360" cy="1096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bcsuser\Local Settings\Temporary Internet Files\Content.IE5\9ZIT1MYZ\MCSY00619_0000[1].wmf"/>
          <p:cNvPicPr/>
          <p:nvPr/>
        </p:nvPicPr>
        <p:blipFill>
          <a:blip r:embed="rId2"/>
          <a:stretch/>
        </p:blipFill>
        <p:spPr>
          <a:xfrm>
            <a:off x="5562720" y="3657600"/>
            <a:ext cx="1854000" cy="1096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bcsuser\Local Settings\Temporary Internet Files\Content.IE5\9ZIT1MYZ\MCSY00619_0000[1].wmf"/>
          <p:cNvPicPr/>
          <p:nvPr/>
        </p:nvPicPr>
        <p:blipFill>
          <a:blip r:embed="rId3"/>
          <a:stretch/>
        </p:blipFill>
        <p:spPr>
          <a:xfrm>
            <a:off x="7010280" y="2666880"/>
            <a:ext cx="1854360" cy="1096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Documents and Settings\bcsuser\Local Settings\Temporary Internet Files\Content.IE5\9ZIT1MYZ\MCSY00619_0000[1].wmf"/>
          <p:cNvPicPr/>
          <p:nvPr/>
        </p:nvPicPr>
        <p:blipFill>
          <a:blip r:embed="rId4"/>
          <a:stretch/>
        </p:blipFill>
        <p:spPr>
          <a:xfrm>
            <a:off x="0" y="4572000"/>
            <a:ext cx="1854360" cy="1096920"/>
          </a:xfrm>
          <a:prstGeom prst="rect">
            <a:avLst/>
          </a:prstGeom>
          <a:ln w="0">
            <a:noFill/>
          </a:ln>
        </p:spPr>
      </p:pic>
    </p:spTree>
  </p:cSld>
  <p:transition advTm="16000">
    <p:fade thruBlk="true"/>
    <p:sndAc>
      <p:stSnd>
        <p:snd r:embed="rId5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threats of the whales would be whaling and also not being able to ea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C:\Documents and Settings\bcsuser\Local Settings\Temporary Internet Files\Content.IE5\XEE8IJW3\MCj02503200000[1].wmf"/>
          <p:cNvPicPr/>
          <p:nvPr/>
        </p:nvPicPr>
        <p:blipFill>
          <a:blip r:embed="rId1"/>
          <a:stretch/>
        </p:blipFill>
        <p:spPr>
          <a:xfrm>
            <a:off x="1523880" y="4114800"/>
            <a:ext cx="2452680" cy="18162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9:02:35Z</dcterms:created>
  <dc:creator> pc#23</dc:creator>
  <dc:description/>
  <dc:language>en-US</dc:language>
  <cp:lastModifiedBy> pc#23</cp:lastModifiedBy>
  <dcterms:modified xsi:type="dcterms:W3CDTF">2009-12-01T13:58:59Z</dcterms:modified>
  <cp:revision>8</cp:revision>
  <dc:subject/>
  <dc:title>The endangered whale</dc:title>
</cp:coreProperties>
</file>